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591-4665-4ABE-BEE6-83CFA2F8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950-5EF1-49AF-94CD-F63FA3CE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64D-9BAF-42F5-8AFF-8E56A37D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7B7-7A6F-4740-AE8B-7005B31E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EEA-B0B1-4938-8574-2EF1D1B4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151-389F-4D52-9CA2-A5260B28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D86-C866-42E0-B1EA-0F8B0970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7B5-AE32-4AA3-A7D3-9666A3C5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138-1D39-4CF1-BB95-3428388F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559-4DAC-457C-B210-3A531B55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C87-8961-4495-998A-388404D6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522-25E4-4904-8EB2-E330708E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696F-C95A-4D57-952E-6912FFDA5615}" type="slidenum">
              <a:rPr b="0" lang="da-D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70880" y="260280"/>
            <a:ext cx="2160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(1,1)*B(:,1)*C(:,1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a-DK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a-DK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765000"/>
            <a:ext cx="71280" cy="576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360" y="189000"/>
            <a:ext cx="2165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A(4,3)*B(:,3)*C(:,3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a-DK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Arial"/>
              </a:rPr>
              <a:t>43</a:t>
            </a: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6372360" y="1125360"/>
            <a:ext cx="504720" cy="3743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9:36:57Z</dcterms:created>
  <dc:creator>Rasmus Bro</dc:creator>
  <dc:description/>
  <dc:language>en-US</dc:language>
  <cp:lastModifiedBy>Rasmus Bro</cp:lastModifiedBy>
  <dcterms:modified xsi:type="dcterms:W3CDTF">2002-01-16T21:10:12Z</dcterms:modified>
  <cp:revision>5</cp:revision>
  <dc:subject/>
  <dc:title>Slide 1</dc:title>
</cp:coreProperties>
</file>